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EA4D8-3A66-47BA-A1CD-6FF5F1936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2E43B-1F8D-4843-9166-B07BA4212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78154-E47E-4177-8FAD-17A7BB20A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076AA-BF76-4865-850E-CD8EA8E7A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85E36-E3D7-4721-8BB5-ABEDB0BC0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069AE-7557-409E-AC2E-F298BDE24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C2F38-7418-4C90-9C3C-F6F7A271D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05D5F-0AD2-4B05-8EDF-9BA37467F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9AAB2-61C5-419F-A07F-D4236CA5A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72A8A-C544-4389-AB8D-932E0464A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4F8A1-F6ED-4B2F-B7DC-8BE203C4C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7D1B1-404B-47B0-B7DA-C19B7C5F6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6C209-609D-44E0-ABD5-B9AD0B7A0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ACF0F-4B55-4DC8-BD9B-F026ECF34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8619B-74E8-41C4-84F2-89DA82C9A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A5B39-0F15-42FE-B7FB-C7ED65DCA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6BBD5-6168-4BE6-A433-CFBD2C111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3C139-2090-4980-A3D8-8D310C8F0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59C1C-0C1D-43C0-BA9C-6E98387AE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15B06-EA6A-4377-858C-CB344FD5D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359A7-E727-4CF5-9D19-B0F84A483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9FB51-FB4B-43A0-8EAD-26A7D9C26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209EF-8480-46B0-9CCB-353EB61C9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971E3-9A11-4017-B542-1F8E4D765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67CE2-70BF-45B5-B62F-628FD1FD4340}" type="slidenum"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03029-46F8-44B9-A1E3-6ED612CB3743}" type="slidenum"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9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장 청각장애아 교육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질문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1"/>
          <a:stretch/>
        </p:blipFill>
        <p:spPr>
          <a:xfrm>
            <a:off x="1835280" y="1844640"/>
            <a:ext cx="525780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문화는 우리의 일상적인 삶이며 그리고 우리의 행위와 사고이다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는 교육체제에서 무시되고 있음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와 농교육의 관련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 프로그램 → 교육과정에 삽입 → 교육과정과 학교문화를 통하여 농문화 내용 존재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개념 및 정의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청각장애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농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난청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dB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Hz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귀의 구조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소리의 전달 경로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소리의 특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중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내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신경 경로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도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고막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중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이소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추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침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등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내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달팽이관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신경유모세포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청력손실 정도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다양한 분류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WHO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의 분류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정상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0-25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경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26-4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중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41-55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중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56-7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71-9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최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91-110dB(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농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농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110dB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초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4. </a:t>
            </a: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전음성과 감음신경성 난청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손상된 음의 전달 경로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청력손실 정도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보청기 착용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음의 쇠약과 왜곡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약물치료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수술 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어음변별력 및 어음명료도 차이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Tympanometry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검사 결과의 차이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5. </a:t>
            </a: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혼합성 난청 외 기타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혼합성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=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전음성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감음신경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편측성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두 귀의 청력손실 차이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각장애의 원인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원인불명과 고열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각장애의 출현율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0.6%(1,000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명당   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언어습득전 난청과 언어습득후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만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2-3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세 전 후에 따라 결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5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진단 평가 및 교육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진단 평가 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청력검사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언어지도방법론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수화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구화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토탈커뮤니케이션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(TC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이중언어 및 이중문화지도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보청기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Vygotsky</a:t>
            </a: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의 교육에 대한 시각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.. 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교사는 모든 것을 가지고 있으나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아동은 가진 것이 전혀 없는 잘못된 원칙에 의존하는 수업의 결과에서 나타난 아동의 수동성은 과학적 사고의 시각에서 엄청난 죄악이다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 ”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.. passivity of the student is the greatest sin from a scientific point of view, since it relies on the false principle that the teacher is everything and the pupil nothing.”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     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인용 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: Bozhovich and Slavina 1972, p.165)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3T23:33:32Z</dcterms:created>
  <dc:creator>.</dc:creator>
  <dc:description/>
  <dc:language>en-US</dc:language>
  <cp:lastModifiedBy>s</cp:lastModifiedBy>
  <dcterms:modified xsi:type="dcterms:W3CDTF">2008-05-23T00:53:43Z</dcterms:modified>
  <cp:revision>14</cp:revision>
  <dc:subject/>
  <dc:title>제 9장 농문화</dc:title>
</cp:coreProperties>
</file>