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70B21-F708-4444-B19F-534130468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D950B-C525-4E6A-8930-153500493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14D44-4599-410C-9EC1-E98818097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6ABB7-5E68-42B2-A7AC-A72F481C6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C158A-47B1-4A7E-BCA0-9ED829BEF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367AA-C73B-4E16-AADF-740D8928C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AD58C-5EDE-42F3-A62D-C181A2636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586E2-F619-4470-A851-C941D9AF4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1FAA4-2EA2-4298-90FA-7E85F2E67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E5E5E-D4D7-469D-A331-C81F2E347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C4EE7-4DAD-462C-AEAE-E29709921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9681A-D981-48A4-8D50-B37BD43B1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D5435-DD1B-41AF-90F1-E888C6094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6FEE5-F1D6-4373-8F8D-0A1AC0F94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E9210-53AF-496F-B4AE-FFFE224BF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5329E-FFE4-4798-9864-26CEE0DA0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1CDDA-8FA3-4436-8EC1-3FAC01E01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DA194-3401-429B-9AF0-0F04F18C4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89B04-D2EE-47F5-8592-C10542F49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0E598-B26E-4E4F-83E4-F751AD770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35A9C-9998-4800-AD78-E2B15FCE0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F62AF-E992-4C94-801D-07A3A4033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3BC7E-AB2C-473A-A72A-9E719F96A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76E63-D1F7-484A-B5C3-D6F02682C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35FDB-3926-4F49-AFBA-890C282E96EB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346120"/>
            <a:ext cx="859284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3439800"/>
            <a:ext cx="76770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542916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2EF0F-5E72-4C79-9B4C-A8743C9E252C}" type="slidenum"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339560"/>
            <a:ext cx="85932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638"/>
                </a:solidFill>
                <a:latin typeface="굴림"/>
                <a:ea typeface="굴림"/>
              </a:rPr>
              <a:t>3</a:t>
            </a: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장 공동 협력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-360" y="2922120"/>
            <a:ext cx="76770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공동 협력의 개념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 협력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Collaboration)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이란 교사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아동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가족이 문제 해결을 위하여 자신들이 지닌 자원과 강점을 공유하는 역동적인 과정이다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.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협력과 상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/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자문과는 차이가 있음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상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/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자문이란 한 사람의 전문가가 문제해결을 도와주는 과정이므로 동등한 입장이 아니지만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협력은 참여자 모두가 동등한 자격으로 의무를 공유하고 의사결정을 함께 내리는 것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.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 협력은 결혼의 조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신랑과 신부의 관계 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부모와 교사의 공동 협력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부모와 교사의 협력 증진 방안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학교활동에 부모참여를 촉진하는 전략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부모와 교사의 회의 전략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특수교사와 일반교사의 공동 협력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일반교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특수교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의사소통 전략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공동협력의 예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실관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사 인터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학급 비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차이점 해결방안 모색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638"/>
                </a:solidFill>
                <a:latin typeface="Arial"/>
                <a:ea typeface="굴림"/>
              </a:rPr>
              <a:t>결론 및 논의</a:t>
            </a:r>
            <a:endParaRPr b="0" lang="en-US" sz="40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공동협력의 필요성 인식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공동 협력이 되지 않는 이유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해결 방안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c638"/>
                </a:solidFill>
                <a:latin typeface="Arial"/>
                <a:ea typeface="굴림"/>
              </a:rPr>
              <a:t>질문</a:t>
            </a:r>
            <a:r>
              <a:rPr b="0" lang="en-US" sz="6000" spc="-1" strike="noStrike">
                <a:solidFill>
                  <a:srgbClr val="ffc638"/>
                </a:solidFill>
                <a:latin typeface="Arial"/>
                <a:ea typeface="굴림"/>
              </a:rPr>
              <a:t>??</a:t>
            </a:r>
            <a:endParaRPr b="0" lang="en-US" sz="6000" spc="-1" strike="noStrike">
              <a:solidFill>
                <a:srgbClr val="ffc638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33480" y="1771560"/>
            <a:ext cx="54738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4T21:04:06Z</dcterms:created>
  <dc:creator/>
  <dc:description/>
  <dc:language>en-US</dc:language>
  <cp:lastModifiedBy>f</cp:lastModifiedBy>
  <dcterms:modified xsi:type="dcterms:W3CDTF">2007-03-28T05:38:25Z</dcterms:modified>
  <cp:revision>14</cp:revision>
  <dc:subject/>
  <dc:title>농아동의 수학교과교육</dc:title>
</cp:coreProperties>
</file>