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18BD-5DED-4FCF-82A5-B9BD56974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6E26-B965-459C-8746-3EE68F893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3578-6648-4CD7-A063-3E455B31E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E553-6843-49F9-9E94-634119264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50371-D658-4AB3-9434-5B3C023D8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518F4-90B7-4D63-8117-EF8E1F9FF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10872-36FE-4432-902B-EEBEE4BDF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835BC-A2E2-4E82-A90B-E4021BDEB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02662-2A6F-457D-9A5A-7447F0F35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7C0DF-A700-4FE5-B938-D9FE64806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7C081-414D-4490-82FD-5C798A967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0A0B-2B26-4F99-B754-F3F82AA6F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6962C-58CA-40A5-B630-210B1B3E2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D1872-FC9D-44F0-B17E-5687646D7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84DE5-1520-405D-877A-A8EB79907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98A11-C546-4E91-AAAE-482CC895C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6B3A3-4D67-42CA-878D-E3C6582DC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5DD0-23FA-48E4-B706-F1361EE63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9AF2-57DA-4A1C-9E1F-E2A459EB1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0E02-9E5D-4943-AEB5-D15D00C32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9CF6-4802-45AC-9C40-B826BF4A1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AE2B-CDFD-4295-B09E-3E408144B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072B-900E-420D-86B6-39C9ECEE4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85C6-70D9-49C6-A6E0-3F8E1DE2D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2E80E-3362-481A-8DB9-5A92E209440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97D9A-EDFC-4705-B96F-D5D2236E5A7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8320"/>
            <a:ext cx="77724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제 </a:t>
            </a: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8</a:t>
            </a: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장 시각장애아 교육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법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각각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만인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력의 손상이 심하여 시각에 의해 학습과제를 수행할 수 없고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촉각이나 청각을 학습의 주요 수단으로 사용하는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이상이나 특정의 학습매체 또는 과제의 수정을 통해서도 시각적 과제수행이 어려운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특정의 광학기구 학습매체 또는 설비를 통하여서만 시각적 과제수행을 할 수 있는 자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맹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점자나 촉각 및 청각매체를 통해서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저시력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잔존시력을 활용하여 문자를 확대하거나 광학적인 기구를 사용하여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기타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손상 시기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각 표상의 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) 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성과 후천성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3-5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 또는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를 기준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맹과 후천맹으로 구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눈의 구조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중추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누기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결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홍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양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맥락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방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정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리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과 시각중추를 이어주는 시신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는 시신경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신경교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측슬상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방성 등으로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빛에 대한 반응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막 – 동공 – 홍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빛의 양 조절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 – 유리체 – 망막 – 시신경과 시신경 교차 – 외측슬상체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방선 – 두뇌의 피질에 도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cc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안질환 외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현율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0.03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나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- 0.07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언어지도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의미보다는 언어 자체를 즐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다양한 음성적 표현의 부족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큰 말소리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말의 속도가 느림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몸짓이나 입술 움직임이 적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점자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듣기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저시력학생의 읽기 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굴림"/>
              </a:rPr>
              <a:t>Any questions?</a:t>
            </a:r>
            <a:endParaRPr b="0" lang="en-US" sz="6000" spc="-1" strike="noStrike">
              <a:solidFill>
                <a:srgbClr val="ffffcc"/>
              </a:solidFill>
              <a:latin typeface="굴림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124000" y="1844640"/>
            <a:ext cx="48960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1T03:28:55Z</dcterms:created>
  <dc:creator>.</dc:creator>
  <dc:description/>
  <dc:language>en-US</dc:language>
  <cp:lastModifiedBy>f</cp:lastModifiedBy>
  <dcterms:modified xsi:type="dcterms:W3CDTF">2007-05-15T06:52:01Z</dcterms:modified>
  <cp:revision>17</cp:revision>
  <dc:subject/>
  <dc:title>제 8장 순회교육</dc:title>
</cp:coreProperties>
</file>