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547E43-D6A5-438F-A631-6AD0ED912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F148BC-1D31-471A-8EC6-1873EFB26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35C6E4-4394-4214-AB16-D82F4B015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D4B3EB-1A33-4195-8FDF-3DE7CEC71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A5C68-2C22-4861-8B8D-30994594F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A1C23-0DDF-44F5-9485-74E6283A0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B8B7B-79E9-462E-840B-C3BCA8203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E0C79-953B-4457-853C-E4E39300E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E4E26-B5AC-4752-BCB3-EDE88F8D2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F0E13-B837-47AC-8D92-E4B475245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4A0A4-9F0C-4002-AE37-7114C2105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3A2625-D26E-4DCF-9BF4-74853778A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0DE44-9662-47E5-B5FB-480651778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B4F76-8F22-451D-AD23-E75E28ED2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42C94-AB05-4745-BD08-71179AC85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E3ACE-CE43-4DB9-9B11-5BE81A400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8B6D1-FC94-4190-845A-1E947A15F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CFC2E2-420E-4BC5-96C5-2A5C7157B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82D2BA-6246-48EE-88F6-C740F5FEE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E71335-3ABE-496D-B9C7-A2CF8E383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E9BC4E-2DEF-4630-8F79-D4E7BA55E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336594-9D56-4C8D-B1D6-4DA977EE2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72AC0B-F6F1-42F7-B522-6B220CF67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D0A01B-9618-43B6-BCE1-CFC3DE6B0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FCB85-328E-4958-A249-2174B49441D6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9B678-230C-47D5-806B-F1AA8DA22696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ffffff"/>
                </a:solidFill>
                <a:latin typeface="굴림"/>
              </a:rPr>
              <a:t>의용평류전류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평류요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 ← 허혈 부위에 농축된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H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  <a:ea typeface="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K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제거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낮은 전류강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0.15-0.25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로 장시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5-30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적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매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204920" y="0"/>
            <a:ext cx="633744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1019160"/>
            <a:ext cx="914400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00000" y="135000"/>
            <a:ext cx="7344000" cy="65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00000" y="398520"/>
            <a:ext cx="7775640" cy="64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5640" y="160200"/>
            <a:ext cx="7777080" cy="666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치료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순환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의 혈관운동신경자극으로 평류 충혈이 생기고 이것은 혈관확장을 의미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영양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염증산물흡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포의 신진대사 촉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 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용 방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접촉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contact method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①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편안한 자세로 치료부위 노출 및 지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②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 원리 및 경험되는 감각 설명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따끔따끔 쑤시는 감각 → 따뜻한 감각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③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부위의 검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피부 표면의 문제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금속의 유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④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환자의 감각 구별 능력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8360" y="738360"/>
            <a:ext cx="81360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기름기 제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적은 패드 접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⑥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도중 움직이거나 치료기기를 만지지 않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상 감각 시 이야기를 하도록 주의를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⑦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시 환자 및 전류계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⑧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종료 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핑크 빛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와 패드를 씻어 화학물질 제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⑨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배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횡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로 관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종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절한 전류 강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0.5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ko-KR" sz="28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⑪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5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79280" y="404640"/>
            <a:ext cx="878544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중 치료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ubaquatic method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부위가 불 균일한 윤곽이거나 광범위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산이 필요할 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편안한 자세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평가 및 청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동통감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욕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baths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에 담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92-100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의사항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물에서 다리를 들어내지 않도록 경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 쇼크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욕조에서 금속을 만지지 않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면에 있는 피부 부위에 절연크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바셀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평류 치료 시 장시간의 낮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평류 치료 시 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전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99640" y="1988640"/>
            <a:ext cx="7427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직류전류의 기본개념을 이해하고 의용 평류전류의 생리적 효과를 토대로 적응증과 금기증을 파악한다</a:t>
            </a: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356000" y="692280"/>
            <a:ext cx="809640" cy="104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764388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급성 염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외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좌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 염증성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레이노드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과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정신과적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588000" y="692280"/>
            <a:ext cx="1047960" cy="914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98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98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98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98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98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98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98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금기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075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열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결 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악성종양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출혈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습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소실 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장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불 유합된 골절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새로 생기는 상처 조직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박조정기 착용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516720" y="549360"/>
            <a:ext cx="79056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정  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전류를 이용한 전기치료의 한 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형 직류 혹은 평류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mooth current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갈바니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curren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과 크기가 변하지 않고 일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interrupted galvanic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정하지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크기가 변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역전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reversed direct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이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의 간격으로 변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411280" y="549360"/>
            <a:ext cx="86688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의 특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00280"/>
            <a:ext cx="84358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류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 한 방향으로 일정하게 흐르는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파수 없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효과는 화학적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류강도는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 이하 사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류정류기 – 진공관식 정류기와 반도체 다이오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성검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기포검사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산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수소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리트머스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995640" y="620640"/>
            <a:ext cx="866880" cy="10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물리화학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Cl + H</a:t>
            </a:r>
            <a:r>
              <a:rPr b="0" lang="ko-KR" sz="2800" spc="-1" strike="noStrike" baseline="-25000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0 = NaCl + HC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Cl-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산과 산소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백질 응고 – 착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+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산화나트륨과 수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화학적 화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 확장의 영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미열효과를 목적으로 사용하지는 않는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은 처음은 따끔거리는 감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몇 분 후 경미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온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생리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충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Galvanic hyperemia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수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이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0.8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 강도로 자극시 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정 및 자극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흥분성 증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감각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역치 저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통전시 역치상승 – 통증 완화 이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3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전도 속도 감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 시 고려 사항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강도범위 –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1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당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½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로 하되 피부인내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당한 치료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0.5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시간 – 처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과에 따라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0-4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주의점 – 강도조절은 서서히 증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습도는 충분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와 피부접촉은 견고히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굴림"/>
              </a:rPr>
              <a:t>치  료  효  과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1197000"/>
          <a:ext cx="9143640" cy="5795640"/>
        </p:xfrm>
        <a:graphic>
          <a:graphicData uri="http://schemas.openxmlformats.org/drawingml/2006/table">
            <a:tbl>
              <a:tblPr/>
              <a:tblGrid>
                <a:gridCol w="2770200"/>
                <a:gridCol w="3325680"/>
                <a:gridCol w="304776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양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음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물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산성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알카리 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 row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생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경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연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진정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극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 유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수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 확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 빈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충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지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출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708360" y="0"/>
            <a:ext cx="961920" cy="1047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임상적 치료 양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형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평류 요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athodal galvanism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ounter-irritant effec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확장→ 순환증가→ 통증의 원인인자 제거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경이 큰 감각신경에 작용→ 척수의 연접 전 억제 기전 활성화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 허혈로 인한 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대강도 적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0.5-0.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0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빈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7T12:51:14Z</dcterms:created>
  <dc:creator>win xp</dc:creator>
  <dc:description/>
  <dc:language>en-US</dc:language>
  <cp:lastModifiedBy>ANGEL</cp:lastModifiedBy>
  <dcterms:modified xsi:type="dcterms:W3CDTF">2005-04-27T14:39:21Z</dcterms:modified>
  <cp:revision>9</cp:revision>
  <dc:subject/>
  <dc:title>의용평류전류</dc:title>
</cp:coreProperties>
</file>