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E48D8-8388-420F-896B-4C6E83D34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74082-81D7-489C-B002-AD43EB5E8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67687-4953-4856-98D9-DDB6075B5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3BCAC-39A3-429B-A4C3-E8A68CDB1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EEC83-14A7-4198-81EB-D00770BEE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7B277-35B6-48C3-AB78-61ED40A91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FFB0C-38E2-49D9-B8B3-1B300B89F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30FA5-5E66-4FD3-9331-3D32370CA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EAA77-2431-4764-8601-D0FE4F602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39BA0-104F-497B-9309-AD5FA4FF0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614E1-4283-4A1A-9889-8106D96D9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E9420-1E97-4354-8E3A-654D70570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CA9BD-7EAC-4339-98FD-CE7186C1A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B6910-8D18-4C31-9107-F9BBE2CB9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57AA5-295D-44FF-8F94-6C2FC39A8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47BCF-D9C9-459A-9120-C2D3CFB8E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41539-E40A-497B-AD4D-FAF01D44E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ACF37-426C-4A80-BDD1-D482EFB0A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FE20A-59FA-43F8-8A04-5EB31843E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458CC-EA22-4E13-A52A-5EA265E9E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75D88-D79D-404D-9C85-C1BC4AC78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8E0E8-4AB4-4832-A19C-B8EED43BF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BF08B-3FB2-45F1-BDA1-63C3A9603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FE2D9-49B8-47A4-8B59-50DDAD70F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자유형 6"/>
          <p:cNvGrpSpPr/>
          <p:nvPr/>
        </p:nvGrpSpPr>
        <p:grpSpPr>
          <a:xfrm>
            <a:off x="-6480" y="493560"/>
            <a:ext cx="2279880" cy="5943600"/>
            <a:chOff x="-6480" y="493560"/>
            <a:chExt cx="2279880" cy="5943600"/>
          </a:xfrm>
        </p:grpSpPr>
        <p:pic>
          <p:nvPicPr>
            <p:cNvPr id="1" name="자유형 6" descr=""/>
            <p:cNvPicPr/>
            <p:nvPr/>
          </p:nvPicPr>
          <p:blipFill>
            <a:blip r:embed="rId3"/>
            <a:stretch/>
          </p:blipFill>
          <p:spPr>
            <a:xfrm>
              <a:off x="-6480" y="493560"/>
              <a:ext cx="2279880" cy="594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2268360" y="5000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b5ad67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61a9b8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ab735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83F35-D32A-48EF-9118-CA3BD991E3F4}" type="slidenum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자유형 6"/>
          <p:cNvGrpSpPr/>
          <p:nvPr/>
        </p:nvGrpSpPr>
        <p:grpSpPr>
          <a:xfrm>
            <a:off x="-6480" y="493560"/>
            <a:ext cx="2279880" cy="5943600"/>
            <a:chOff x="-6480" y="493560"/>
            <a:chExt cx="2279880" cy="5943600"/>
          </a:xfrm>
        </p:grpSpPr>
        <p:pic>
          <p:nvPicPr>
            <p:cNvPr id="45" name="자유형 6" descr=""/>
            <p:cNvPicPr/>
            <p:nvPr/>
          </p:nvPicPr>
          <p:blipFill>
            <a:blip r:embed="rId3"/>
            <a:stretch/>
          </p:blipFill>
          <p:spPr>
            <a:xfrm>
              <a:off x="-6480" y="493560"/>
              <a:ext cx="2279880" cy="594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268360" y="5000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grpSp>
        <p:nvGrpSpPr>
          <p:cNvPr id="47" name="자유형 7"/>
          <p:cNvGrpSpPr/>
          <p:nvPr/>
        </p:nvGrpSpPr>
        <p:grpSpPr>
          <a:xfrm>
            <a:off x="6815160" y="420840"/>
            <a:ext cx="2335320" cy="6016320"/>
            <a:chOff x="6815160" y="420840"/>
            <a:chExt cx="2335320" cy="6016320"/>
          </a:xfrm>
        </p:grpSpPr>
        <p:pic>
          <p:nvPicPr>
            <p:cNvPr id="48" name="자유형 7" descr=""/>
            <p:cNvPicPr/>
            <p:nvPr/>
          </p:nvPicPr>
          <p:blipFill>
            <a:blip r:embed="rId4"/>
            <a:stretch/>
          </p:blipFill>
          <p:spPr>
            <a:xfrm>
              <a:off x="6815160" y="420840"/>
              <a:ext cx="2335320" cy="601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6819840" y="4287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b5ad67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61a9b8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ab735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00751-EDDD-4A8C-87C3-C7616B7EF173}" type="slidenum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395280" y="2060640"/>
            <a:ext cx="842472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0" spc="-1" strike="noStrike">
                <a:solidFill>
                  <a:srgbClr val="6c6c6c"/>
                </a:solidFill>
                <a:latin typeface="Cambria"/>
              </a:rPr>
              <a:t>대구 경상병원</a:t>
            </a:r>
            <a:endParaRPr b="0" lang="en-US" sz="10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내용 개체 틀 5" descr="map1.JPG"/>
          <p:cNvPicPr/>
          <p:nvPr/>
        </p:nvPicPr>
        <p:blipFill>
          <a:blip r:embed="rId2"/>
          <a:stretch/>
        </p:blipFill>
        <p:spPr>
          <a:xfrm>
            <a:off x="4859280" y="2060640"/>
            <a:ext cx="3959280" cy="4176720"/>
          </a:xfrm>
          <a:prstGeom prst="rect">
            <a:avLst/>
          </a:prstGeom>
          <a:ln w="0">
            <a:noFill/>
          </a:ln>
        </p:spPr>
      </p:pic>
      <p:sp>
        <p:nvSpPr>
          <p:cNvPr id="93" name="부제목 2"/>
          <p:cNvSpPr/>
          <p:nvPr/>
        </p:nvSpPr>
        <p:spPr>
          <a:xfrm>
            <a:off x="324000" y="260280"/>
            <a:ext cx="388764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위치와 소개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4" name=""/>
          <p:cNvSpPr/>
          <p:nvPr/>
        </p:nvSpPr>
        <p:spPr>
          <a:xfrm>
            <a:off x="539640" y="1484280"/>
            <a:ext cx="424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  <a:ea typeface="굴림"/>
              </a:rPr>
              <a:t>지하철 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  <a:ea typeface="굴림"/>
              </a:rPr>
              <a:t>2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  <a:ea typeface="굴림"/>
              </a:rPr>
              <a:t>호선 두류역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5" name="내용 개체 틀 2"/>
          <p:cNvSpPr/>
          <p:nvPr/>
        </p:nvSpPr>
        <p:spPr>
          <a:xfrm>
            <a:off x="-252360" y="2492280"/>
            <a:ext cx="691200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노인 전문 </a:t>
            </a:r>
            <a:r>
              <a:rPr b="0" lang="ko-KR" sz="3000" spc="-1" strike="noStrike">
                <a:solidFill>
                  <a:srgbClr val="f76b04"/>
                </a:solidFill>
                <a:latin typeface="Cambria"/>
              </a:rPr>
              <a:t>요양병원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중추신경계 환자 위주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400" spc="-1" strike="noStrike">
                <a:solidFill>
                  <a:srgbClr val="f76b04"/>
                </a:solidFill>
                <a:latin typeface="Cambria"/>
              </a:rPr>
              <a:t>   </a:t>
            </a:r>
            <a:r>
              <a:rPr b="0" lang="ko-KR" sz="2500" spc="-1" strike="noStrike">
                <a:solidFill>
                  <a:srgbClr val="f76b04"/>
                </a:solidFill>
                <a:latin typeface="Cambria"/>
              </a:rPr>
              <a:t>뇌질환</a:t>
            </a:r>
            <a:r>
              <a:rPr b="0" lang="en-US" sz="2500" spc="-1" strike="noStrike">
                <a:solidFill>
                  <a:srgbClr val="f76b04"/>
                </a:solidFill>
                <a:latin typeface="Cambria"/>
              </a:rPr>
              <a:t>(CVA,TBI), </a:t>
            </a:r>
            <a:r>
              <a:rPr b="0" lang="ko-KR" sz="2500" spc="-1" strike="noStrike">
                <a:solidFill>
                  <a:srgbClr val="f76b04"/>
                </a:solidFill>
                <a:latin typeface="Cambria"/>
              </a:rPr>
              <a:t>척수손상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통증치료실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모달리티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468360" y="1341360"/>
            <a:ext cx="8229600" cy="20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출 근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/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퇴 근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출근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오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8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2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오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5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0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~ 1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1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점심무료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7" name="부제목 2"/>
          <p:cNvSpPr/>
          <p:nvPr/>
        </p:nvSpPr>
        <p:spPr>
          <a:xfrm>
            <a:off x="324000" y="260280"/>
            <a:ext cx="338436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실습 환경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내용 개체 틀 2"/>
          <p:cNvSpPr/>
          <p:nvPr/>
        </p:nvSpPr>
        <p:spPr>
          <a:xfrm>
            <a:off x="468360" y="3573360"/>
            <a:ext cx="8229600" cy="27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담당선생님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주일씩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4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명의 선생님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연차순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24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marL="315360" indent="-31536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복 장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가 운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자율복장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편안한 복장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내화 착용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468360" y="134136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 습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담당선생님의 스케줄에 따라 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, 2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 이동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치료사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인당 환자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5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명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~20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명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Observation + FES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실습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 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 Hot Pack + TENS + FES + Tilt Table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실습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습과제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신경계 논문 번역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최근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년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레포트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주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개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케이스 발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주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개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0" name="부제목 2"/>
          <p:cNvSpPr/>
          <p:nvPr/>
        </p:nvSpPr>
        <p:spPr>
          <a:xfrm>
            <a:off x="324000" y="260280"/>
            <a:ext cx="496872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실습내용</a:t>
            </a:r>
            <a:r>
              <a:rPr b="1" lang="en-US" sz="5000" spc="-1" strike="noStrike">
                <a:solidFill>
                  <a:srgbClr val="000000"/>
                </a:solidFill>
                <a:latin typeface="Cambria"/>
              </a:rPr>
              <a:t>&amp;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과제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624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장 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신경계 환자들은 확실히 볼 수 있음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점심 무료 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지하철 역 바로 앞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호선 두류역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환자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Transfer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하지 않음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남자 간병인이 함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marL="305280" indent="-305280">
              <a:spcBef>
                <a:spcPts val="624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단 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환자 케이스 부족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지나치게 신경계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뇌줄중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편중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다른 학교 실습생들이 없음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보건대와 대구대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과제수기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2" name="부제목 2"/>
          <p:cNvSpPr/>
          <p:nvPr/>
        </p:nvSpPr>
        <p:spPr>
          <a:xfrm>
            <a:off x="324000" y="260280"/>
            <a:ext cx="374328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장점와 단점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6T14:17:26Z</dcterms:created>
  <dc:creator>XP_USER</dc:creator>
  <dc:description/>
  <dc:language>en-US</dc:language>
  <cp:lastModifiedBy>Staff</cp:lastModifiedBy>
  <dcterms:modified xsi:type="dcterms:W3CDTF">2009-04-11T08:25:26Z</dcterms:modified>
  <cp:revision>12</cp:revision>
  <dc:subject/>
  <dc:title>병원 실습 발표</dc:title>
</cp:coreProperties>
</file>