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C177-CCA1-4381-B22B-33AEBD97C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419B-BDBE-4FE4-AF34-6DF7C6A90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35AF-4D3D-41AC-BBCF-176CA8C00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FB44-BABC-404C-AA41-0C4A67404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BA06A-E2F1-4076-9F9B-1972CBA2E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DE3BF-7B54-48AB-BF41-590D7CDCD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34654-8394-4D6B-955E-58477C7B1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CA7D4-E58E-45A8-AA67-190F573C1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3A80B-6224-46E2-95ED-998C8D32A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3C841-0C15-4DA4-AD95-0DFBD48EC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52189-B063-4C6F-AFFA-5DF6AF10C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1AE0-0A69-4545-BD13-DE2585FB0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C318C-FE54-493B-A625-0362B7C6F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D3918-1866-47F0-838F-DB2459A8F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C94E8-E8D3-43EA-B5F6-0BFFAE28B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B8DB2-857D-4C26-B654-3C4352836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12D7C-4872-42A7-9581-45B3B1BFF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503D-86DF-4CC3-9386-A56AB665C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215F-1F8D-4C4D-B3EF-FEF65FF3D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FCC8-9212-413A-A2E6-60032FC08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CE79-BE28-4DDB-B74E-DCD946E0C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9946-5EB2-4A29-84E4-D354F35A9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BC32-98E1-4818-A8C1-4C9CF45DB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A784-6CF6-4E22-B042-06E3B0220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1E67D-A648-4D51-9180-0CDD681A971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4211D-F0EE-4F37-BA48-2B80C545FFE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greengrowth.go.kr/green/green01.html" TargetMode="External"/><Relationship Id="rId2" Type="http://schemas.openxmlformats.org/officeDocument/2006/relationships/hyperlink" Target="http://olv.moazine.com/rviewer/index.asp" TargetMode="External"/><Relationship Id="rId3" Type="http://schemas.openxmlformats.org/officeDocument/2006/relationships/hyperlink" Target="http://cafe.naver.com/pellet/20" TargetMode="Externa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466560"/>
            <a:ext cx="7143840" cy="639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 </a:t>
            </a:r>
            <a:br>
              <a:rPr sz="5400"/>
            </a:b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목재펠릿을 이용한</a:t>
            </a:r>
            <a:br>
              <a:rPr sz="5400"/>
            </a:b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바이오매스 </a:t>
            </a:r>
            <a:br>
              <a:rPr sz="5400"/>
            </a:br>
            <a:br>
              <a:rPr sz="4000"/>
            </a:br>
            <a:br>
              <a:rPr sz="4000"/>
            </a:br>
            <a:br>
              <a:rPr sz="3600"/>
            </a:br>
            <a:br>
              <a:rPr sz="3600"/>
            </a:b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6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조</a:t>
            </a:r>
            <a:br>
              <a:rPr sz="3900"/>
            </a:b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장재경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이병준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정지용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오세중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②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재생산 가능한 목재자원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이용하여 생산하기 때문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화석연료를 대체하여 온실가스를 감소시키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친환경 연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아황산가스를 비롯한 유해가스를 배출하지 않음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③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8360" y="22575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숲가꾸기 발생 산물이나 제재 산물을 이용 가능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자원의 순환 이용에 기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역 산림사업 일자리 창출에 도움을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</a:t>
            </a:r>
            <a:br>
              <a:rPr sz="2800"/>
            </a:br>
            <a:r>
              <a:rPr b="1" lang="ko-KR" sz="2800" spc="-1" strike="noStrike">
                <a:solidFill>
                  <a:srgbClr val="330066"/>
                </a:solidFill>
                <a:latin typeface="굴림"/>
              </a:rPr>
              <a:t>우드 펠렛의 경제성</a:t>
            </a:r>
            <a:endParaRPr b="1" lang="en-US" sz="2800" spc="-1" strike="noStrike">
              <a:solidFill>
                <a:srgbClr val="330066"/>
              </a:solidFill>
              <a:latin typeface="굴림"/>
            </a:endParaRPr>
          </a:p>
        </p:txBody>
      </p:sp>
      <p:pic>
        <p:nvPicPr>
          <p:cNvPr id="183" name="Picture 4" descr=""/>
          <p:cNvPicPr/>
          <p:nvPr/>
        </p:nvPicPr>
        <p:blipFill>
          <a:blip r:embed="rId1"/>
          <a:stretch/>
        </p:blipFill>
        <p:spPr>
          <a:xfrm>
            <a:off x="468360" y="1701720"/>
            <a:ext cx="5040360" cy="32400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"/>
          <p:cNvPicPr/>
          <p:nvPr/>
        </p:nvPicPr>
        <p:blipFill>
          <a:blip r:embed="rId2"/>
          <a:stretch/>
        </p:blipFill>
        <p:spPr>
          <a:xfrm>
            <a:off x="4660920" y="3429000"/>
            <a:ext cx="4448160" cy="31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국내 이용사례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화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나주 펠렛 보일러 공장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7" name="_x65241240" descr="EMB000009345997"/>
          <p:cNvPicPr/>
          <p:nvPr/>
        </p:nvPicPr>
        <p:blipFill>
          <a:blip r:embed="rId1"/>
          <a:stretch/>
        </p:blipFill>
        <p:spPr>
          <a:xfrm>
            <a:off x="611280" y="1989000"/>
            <a:ext cx="4105080" cy="283068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5"/>
          <p:cNvSpPr/>
          <p:nvPr/>
        </p:nvSpPr>
        <p:spPr>
          <a:xfrm>
            <a:off x="4753080" y="198900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전남 화순과 나주에 숲가꾸기 사업의 부산물인 펠렛을 활용한 보일러 공장이 잇따라 들어선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농가 등지에서 많이 사용하는 펠렛 보일러 가격은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433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만원대로 일반 기름보일러보다 비싸나 보일러 가격의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70%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를 국고로 보조하고 있어 최근 보급량이 늘고 있는 추세이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539640" y="4869000"/>
            <a:ext cx="83534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펠렛은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2kg(800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원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을 난방 연료로 사용할 경우 가정용 난방유인 등유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L(930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원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에 비해 같은 열효율을 내는데 반해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4%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의 에너지 절감효과와 함께 친환경 목질 연료라는 장점을 가지고 있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국외 이용사례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(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일본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)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518328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일본 이와테현 구즈마키 마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마을의 주요 산업인 낙농업과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임업의 발전을 위해 구즈마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고원 목장에 축분 바이오가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시스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37kW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을 도입하였으며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공공시설과 가정 등에 목질펠렛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보일러 스토브를 도입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92" name="Picture 4" descr="EMB000005880001"/>
          <p:cNvPicPr/>
          <p:nvPr/>
        </p:nvPicPr>
        <p:blipFill>
          <a:blip r:embed="rId1"/>
          <a:stretch/>
        </p:blipFill>
        <p:spPr>
          <a:xfrm>
            <a:off x="5580000" y="1628640"/>
            <a:ext cx="3260880" cy="4896000"/>
          </a:xfrm>
          <a:prstGeom prst="rect">
            <a:avLst/>
          </a:prstGeom>
          <a:ln w="0">
            <a:noFill/>
          </a:ln>
          <a:effectLst>
            <a:outerShdw dist="125751" dir="2700000" blurRad="0" rotWithShape="0">
              <a:srgbClr val="669999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결  론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목질 펠렛이 플라스틱 목재 및 종이류 음식물 쓰레기 등 폐자원을 에너지원으로 이용하여 저렴한 비용으로 에너지를 생산할 수 있고 폐기물 처리비도 절감 할 수 있다는 결과가 나옴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뿐만 아니라 온실감축에도 도움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펠렛에는 자동화가 진행되고 점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소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온도조절이 스위치로 할 수 있고 편의성에서도 화석연료의 연소기기에 비해 손색이 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연료로서 취급이 용이함과 비용과의 균형이 좋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결  론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28400" y="1753920"/>
            <a:ext cx="8715240" cy="51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한편 폐목재를  펫릿으로 제조하기 까지는 많은 공정과 정밀 기술이 필요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부산물이나 산림  피해목 신도시 건설에서 발생하는 개발 부산물 등 목질께 바이오매스에 이용 가능량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530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㎡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로 추산됨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실제로 수집되고 활용되는 비율은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20%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에도 미치지 못하고 있는 상황임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향후 바이오매스 수요증가에 따라 국내 보존하는 산림 부산물 및 폐목재에 대한 수요 증가로 이에 대한 대책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또한 필요하며 통일적인 규격을 만드는 것이 중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참고 문헌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395280" y="1844640"/>
            <a:ext cx="849780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미래연료 펠렛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kcpension.co.kr/gesipan/files/tb_61081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산림조합 산림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2004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년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11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월호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녹색성장</a:t>
            </a: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1"/>
              </a:rPr>
              <a:t>http://www.greengrowth.go.kr/green/green01.htm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다음 게시판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지 잡지 포탈 모아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2"/>
              </a:rPr>
              <a:t>http://olv.moazine.com/rviewer/index.asp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네이버 카페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신재생에너지 목재 압축연료 펠릿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3"/>
              </a:rPr>
              <a:t>http://cafe.naver.com/pellet/20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55280" y="2708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330066"/>
                </a:solidFill>
                <a:latin typeface="굴림"/>
              </a:rPr>
              <a:t>Thank you!</a:t>
            </a:r>
            <a:endParaRPr b="1" lang="en-US" sz="45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  차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1" name="AutoShape 5"/>
          <p:cNvSpPr/>
          <p:nvPr/>
        </p:nvSpPr>
        <p:spPr>
          <a:xfrm>
            <a:off x="684360" y="198756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ⅱ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본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AutoShape 6"/>
          <p:cNvSpPr/>
          <p:nvPr/>
        </p:nvSpPr>
        <p:spPr>
          <a:xfrm>
            <a:off x="684360" y="1268280"/>
            <a:ext cx="7127640" cy="64800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ⅰ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서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AutoShape 7"/>
          <p:cNvSpPr/>
          <p:nvPr/>
        </p:nvSpPr>
        <p:spPr>
          <a:xfrm>
            <a:off x="684360" y="270828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목재 펠렛의 정의 및 제조과정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AutoShape 8"/>
          <p:cNvSpPr/>
          <p:nvPr/>
        </p:nvSpPr>
        <p:spPr>
          <a:xfrm>
            <a:off x="684360" y="342756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목재 펠렛의 특징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AutoShape 9"/>
          <p:cNvSpPr/>
          <p:nvPr/>
        </p:nvSpPr>
        <p:spPr>
          <a:xfrm>
            <a:off x="684360" y="414828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국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내외 이용사례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AutoShape 10"/>
          <p:cNvSpPr/>
          <p:nvPr/>
        </p:nvSpPr>
        <p:spPr>
          <a:xfrm>
            <a:off x="684360" y="486720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ⅲ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결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AutoShape 11"/>
          <p:cNvSpPr/>
          <p:nvPr/>
        </p:nvSpPr>
        <p:spPr>
          <a:xfrm>
            <a:off x="684360" y="558792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ⅳ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참고문헌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56760" y="-360"/>
            <a:ext cx="7543800" cy="171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서  론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-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주제 선정 동기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교토의정서의 발효로 인한 탄소 배출권의 문제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재생에너지의 개발이 요구되고 있는 현실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산림에 방치되고 있는 임지잔재를 이용한 에너지 문제가 거론되면서 산림 바이오매스 에너지에 대한 중요성 커지고 있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이와 같은 사회적 추세에 발맞추어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산림 바이오매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에너지 활용을 위한 발표를 하기 위해 조사를 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목재 펠렛이란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산림에서 생산된 목재나 제재소에서 나오는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산물을 톱밥으로 분쇄한 다음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높은 온도와 압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력으로 압축하여 일정한 크기로 생산한 청정 목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질계 바이오 연료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2" name="Picture 4" descr="Holzpellets6mm_Rettenmaier_03"/>
          <p:cNvPicPr/>
          <p:nvPr/>
        </p:nvPicPr>
        <p:blipFill>
          <a:blip r:embed="rId1"/>
          <a:srcRect l="7998" t="12671" r="13501" b="24667"/>
          <a:stretch/>
        </p:blipFill>
        <p:spPr>
          <a:xfrm>
            <a:off x="1042920" y="4149720"/>
            <a:ext cx="3024360" cy="2705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3" name="Picture 5" descr="Holzpellets8mm_Pajala_01"/>
          <p:cNvPicPr/>
          <p:nvPr/>
        </p:nvPicPr>
        <p:blipFill>
          <a:blip r:embed="rId2"/>
          <a:srcRect l="14743" t="28740" r="19153" b="20620"/>
          <a:stretch/>
        </p:blipFill>
        <p:spPr>
          <a:xfrm>
            <a:off x="4716360" y="4149720"/>
            <a:ext cx="3168720" cy="2664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6" name="Picture 4" descr=""/>
          <p:cNvPicPr/>
          <p:nvPr/>
        </p:nvPicPr>
        <p:blipFill>
          <a:blip r:embed="rId1"/>
          <a:stretch/>
        </p:blipFill>
        <p:spPr>
          <a:xfrm>
            <a:off x="900000" y="1844640"/>
            <a:ext cx="725652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0" y="1322280"/>
            <a:ext cx="914400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94920" y="122400"/>
            <a:ext cx="7543800" cy="1434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</a:t>
            </a:r>
            <a:br>
              <a:rPr sz="3900"/>
            </a:br>
            <a:r>
              <a:rPr b="1" lang="ko-KR" sz="2600" spc="-1" strike="noStrike">
                <a:solidFill>
                  <a:srgbClr val="330066"/>
                </a:solidFill>
                <a:latin typeface="굴림"/>
              </a:rPr>
              <a:t>연료단위 비용당 발열량 및 가격대</a:t>
            </a:r>
            <a:endParaRPr b="1" lang="en-US" sz="26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2663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제조과정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톱밥저장→ 건조 후 수분함량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50%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에서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8%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까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떨어짐 보관 → 톱밥 분쇄 후 수분박막 씌움 →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사출기로 재료를 넣고 뽑음 → 목질소가 활성화로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목질 섬유 접착 → 식힌 후 보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5" name="_x92934864" descr="EMB00000934598f"/>
          <p:cNvPicPr/>
          <p:nvPr/>
        </p:nvPicPr>
        <p:blipFill>
          <a:blip r:embed="rId1"/>
          <a:stretch/>
        </p:blipFill>
        <p:spPr>
          <a:xfrm>
            <a:off x="430200" y="3238560"/>
            <a:ext cx="871380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①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8360" y="218556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작고 일정한 크기고 압축되어 생산되기 때문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은 공간에 많은 양을 저장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난방장치의 크기를 소형화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연료공급을 자동화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5T11:17:09Z</dcterms:created>
  <dc:creator/>
  <dc:description/>
  <dc:language>en-US</dc:language>
  <cp:lastModifiedBy>이병준</cp:lastModifiedBy>
  <dcterms:modified xsi:type="dcterms:W3CDTF">2012-05-30T10:26:59Z</dcterms:modified>
  <cp:revision>32</cp:revision>
  <dc:subject/>
  <dc:title>저탄소 녹색성장  목재펠릿</dc:title>
</cp:coreProperties>
</file>